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22D-4D04-4CE6-A464-2496B3DB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316E-0938-4DC9-88A6-BF29D808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178-8657-4D33-8869-BD2FB080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62A-538B-438D-9D0F-48DCB161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8F8-CEF3-4C48-83E1-09A0A513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ABE-091A-41D0-985C-742DBA2E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1CF-404D-478D-BE52-8A31D09C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CDE5-08EE-430D-B818-A7AC8075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A3B-43EC-4C9E-8310-127C967C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35E-9BE8-453F-BD22-C7DA24E9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985-424E-432C-8865-AA31EEA7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2EB-DC21-41A6-8AEE-3606F151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11B6-9A9E-4D1D-91E8-F19C44C6110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 redondeado"/>
          <p:cNvSpPr/>
          <p:nvPr/>
        </p:nvSpPr>
        <p:spPr>
          <a:xfrm>
            <a:off x="1071720" y="571680"/>
            <a:ext cx="6572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Falta de Higiene en los Restaurantes del Centro de Li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5 CuadroTexto"/>
          <p:cNvSpPr/>
          <p:nvPr/>
        </p:nvSpPr>
        <p:spPr>
          <a:xfrm>
            <a:off x="214200" y="1428840"/>
            <a:ext cx="63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Se visitó el restaurante “El Carmelo” y se identificaron los siguientes problema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UPC\LIDERAZGO\Restaurante\Foto0060.jpg"/>
          <p:cNvPicPr/>
          <p:nvPr/>
        </p:nvPicPr>
        <p:blipFill>
          <a:blip r:embed="rId1"/>
          <a:stretch/>
        </p:blipFill>
        <p:spPr>
          <a:xfrm>
            <a:off x="4906800" y="1928880"/>
            <a:ext cx="366588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UPC\LIDERAZGO\Restaurante\Foto0047.jpg"/>
          <p:cNvPicPr/>
          <p:nvPr/>
        </p:nvPicPr>
        <p:blipFill>
          <a:blip r:embed="rId2"/>
          <a:stretch/>
        </p:blipFill>
        <p:spPr>
          <a:xfrm>
            <a:off x="500040" y="3500280"/>
            <a:ext cx="2928960" cy="2711520"/>
          </a:xfrm>
          <a:prstGeom prst="rect">
            <a:avLst/>
          </a:prstGeom>
          <a:ln w="0">
            <a:noFill/>
          </a:ln>
        </p:spPr>
      </p:pic>
      <p:sp>
        <p:nvSpPr>
          <p:cNvPr id="45" name="14 Rectángulo"/>
          <p:cNvSpPr/>
          <p:nvPr/>
        </p:nvSpPr>
        <p:spPr>
          <a:xfrm>
            <a:off x="357120" y="2000160"/>
            <a:ext cx="4357800" cy="1285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l exterior del restaurante hay mucho desorden, basura y mucha circulación de person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La misma persona que se encarga de servir las comidas es quien cobra el precio de las mis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15 Rectángulo"/>
          <p:cNvSpPr/>
          <p:nvPr/>
        </p:nvSpPr>
        <p:spPr>
          <a:xfrm>
            <a:off x="4357800" y="4429080"/>
            <a:ext cx="4357440" cy="1857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observó que el piso estaba sucio y las paredes y desgastadas, tambié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l restaurante no cuenta con extintores y pocas señales de escape en casos de emergenc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La cocina es pequeña, desordenada y su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UPC\LIDERAZGO\Restaurante\Foto0043.jpg"/>
          <p:cNvPicPr/>
          <p:nvPr/>
        </p:nvPicPr>
        <p:blipFill>
          <a:blip r:embed="rId1"/>
          <a:stretch/>
        </p:blipFill>
        <p:spPr>
          <a:xfrm>
            <a:off x="5357880" y="357120"/>
            <a:ext cx="307188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E:\UPC\LIDERAZGO\Restaurante\Foto0039.jpg"/>
          <p:cNvPicPr/>
          <p:nvPr/>
        </p:nvPicPr>
        <p:blipFill>
          <a:blip r:embed="rId2"/>
          <a:stretch/>
        </p:blipFill>
        <p:spPr>
          <a:xfrm>
            <a:off x="571680" y="3000240"/>
            <a:ext cx="3500280" cy="3333960"/>
          </a:xfrm>
          <a:prstGeom prst="rect">
            <a:avLst/>
          </a:prstGeom>
          <a:ln w="0">
            <a:noFill/>
          </a:ln>
        </p:spPr>
      </p:pic>
      <p:sp>
        <p:nvSpPr>
          <p:cNvPr id="49" name="6 Rectángulo"/>
          <p:cNvSpPr/>
          <p:nvPr/>
        </p:nvSpPr>
        <p:spPr>
          <a:xfrm>
            <a:off x="4286160" y="4143240"/>
            <a:ext cx="4357800" cy="2357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La misma persona que se encarga de servir los alimentos es quien cobra el precio de las mis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Las mesas del establecimiento son compartidas y no individual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l aroma que se percibe en el ambiente es algo desagradable y se pudo observar la presencia de mosca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7 Rectángulo"/>
          <p:cNvSpPr/>
          <p:nvPr/>
        </p:nvSpPr>
        <p:spPr>
          <a:xfrm>
            <a:off x="428760" y="357120"/>
            <a:ext cx="4357440" cy="2357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eferente a la comida, la calidad y el sabor son malo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ncima de la refrigeradora había una serie de objetos inadecuados para esa ub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l ambiente no muestra el certificado de funcionamiento, ni el libro de reclamaciones para el consumido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3 CuadroTexto"/>
          <p:cNvSpPr/>
          <p:nvPr/>
        </p:nvSpPr>
        <p:spPr>
          <a:xfrm>
            <a:off x="285840" y="500040"/>
            <a:ext cx="63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 la entrevista se obtuvo las siguientes respuesta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4 Rectángulo"/>
          <p:cNvSpPr/>
          <p:nvPr/>
        </p:nvSpPr>
        <p:spPr>
          <a:xfrm>
            <a:off x="214200" y="928800"/>
            <a:ext cx="4214880" cy="1285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1. ¿Por qué comían en ese restaurant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1: Las personas no conocían otro restaura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2: El precio era muy cómo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3: Había variedad en el men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5 Rectángulo"/>
          <p:cNvSpPr/>
          <p:nvPr/>
        </p:nvSpPr>
        <p:spPr>
          <a:xfrm>
            <a:off x="214200" y="2286000"/>
            <a:ext cx="4214880" cy="1714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2. ¿Qué le parece el ambiente del restaurant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1: Se ve que hay falta de higiene y ord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2: Les parece normal, como el resto de los restaur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3: No tiene buen aspecto y hay un aroma desagrad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6 Rectángulo"/>
          <p:cNvSpPr/>
          <p:nvPr/>
        </p:nvSpPr>
        <p:spPr>
          <a:xfrm>
            <a:off x="214200" y="4071960"/>
            <a:ext cx="4214880" cy="128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3. ¿Qué le parece la comid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1: Sirven buena por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2: El sabor no es tan ma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3: Deberían servir mucho 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Rectángulo"/>
          <p:cNvSpPr/>
          <p:nvPr/>
        </p:nvSpPr>
        <p:spPr>
          <a:xfrm>
            <a:off x="214200" y="5429160"/>
            <a:ext cx="4214880" cy="128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4. ¿Si pudiera mejorar algo, qué serí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1: Mejor sazón de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2: Poner música y TV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3: Un poco mas de limpiez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E:\UPC\LIDERAZGO\Restaurante\Foto0045.jpg"/>
          <p:cNvPicPr/>
          <p:nvPr/>
        </p:nvPicPr>
        <p:blipFill>
          <a:blip r:embed="rId1"/>
          <a:stretch/>
        </p:blipFill>
        <p:spPr>
          <a:xfrm>
            <a:off x="7000920" y="357120"/>
            <a:ext cx="1571760" cy="21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E:\UPC\LIDERAZGO\Restaurante\Foto0059.jpg"/>
          <p:cNvPicPr/>
          <p:nvPr/>
        </p:nvPicPr>
        <p:blipFill>
          <a:blip r:embed="rId2"/>
          <a:stretch/>
        </p:blipFill>
        <p:spPr>
          <a:xfrm>
            <a:off x="5286240" y="2643120"/>
            <a:ext cx="3357720" cy="185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E:\UPC\LIDERAZGO\Restaurante\Foto0058.jpg"/>
          <p:cNvPicPr/>
          <p:nvPr/>
        </p:nvPicPr>
        <p:blipFill>
          <a:blip r:embed="rId3"/>
          <a:stretch/>
        </p:blipFill>
        <p:spPr>
          <a:xfrm>
            <a:off x="5214960" y="4643280"/>
            <a:ext cx="1714320" cy="2021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E:\UPC\LIDERAZGO\Restaurante\Foto0030.jpg"/>
          <p:cNvPicPr/>
          <p:nvPr/>
        </p:nvPicPr>
        <p:blipFill>
          <a:blip r:embed="rId4"/>
          <a:stretch/>
        </p:blipFill>
        <p:spPr>
          <a:xfrm>
            <a:off x="7215120" y="4643280"/>
            <a:ext cx="1533600" cy="204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E:\UPC\LIDERAZGO\Restaurante\Foto0052.jpg"/>
          <p:cNvPicPr/>
          <p:nvPr/>
        </p:nvPicPr>
        <p:blipFill>
          <a:blip r:embed="rId5"/>
          <a:stretch/>
        </p:blipFill>
        <p:spPr>
          <a:xfrm>
            <a:off x="5268960" y="428760"/>
            <a:ext cx="157140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campos</cp:lastModifiedBy>
  <dcterms:modified xsi:type="dcterms:W3CDTF">2012-04-14T18:55:52Z</dcterms:modified>
  <cp:revision>10</cp:revision>
  <dc:subject/>
  <dc:title>Diapositiva 1</dc:title>
</cp:coreProperties>
</file>