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ADC-2182-427C-8F40-9BF4062B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458-CBFD-4B9C-A461-A4692BDC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6A1-DBAC-4BA6-AB96-6CAB283B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281-0E42-4DCC-937D-B9F3EAE4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EED-8F37-4F59-9127-53C8C9A0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09F-D712-4E63-8C77-152E982A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440-9915-4E69-A0B5-C3806FAF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A68-8687-45D4-B0AB-B005ABEA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F62-76DF-46CC-812C-16A7A6C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37B-2C40-4719-B2AF-791B296F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E98-93F0-4380-8BD5-AA0AC903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95D-930B-4DBC-B4A5-AB81E08A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84F-DCC4-4D80-8BC8-D52B55F56D6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 redondeado"/>
          <p:cNvSpPr/>
          <p:nvPr/>
        </p:nvSpPr>
        <p:spPr>
          <a:xfrm>
            <a:off x="1071720" y="571680"/>
            <a:ext cx="6572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Falta de Higiene en los Restaurantes del Centro de L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5 CuadroTexto"/>
          <p:cNvSpPr/>
          <p:nvPr/>
        </p:nvSpPr>
        <p:spPr>
          <a:xfrm>
            <a:off x="214200" y="1428840"/>
            <a:ext cx="63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 visitó el restaurante “El Carmelo” y se identificaron los siguientes proble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UPC\LIDERAZGO\Restaurante\Foto0060.jpg"/>
          <p:cNvPicPr/>
          <p:nvPr/>
        </p:nvPicPr>
        <p:blipFill>
          <a:blip r:embed="rId1"/>
          <a:stretch/>
        </p:blipFill>
        <p:spPr>
          <a:xfrm>
            <a:off x="4906800" y="1928880"/>
            <a:ext cx="36658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UPC\LIDERAZGO\Restaurante\Foto0047.jpg"/>
          <p:cNvPicPr/>
          <p:nvPr/>
        </p:nvPicPr>
        <p:blipFill>
          <a:blip r:embed="rId2"/>
          <a:stretch/>
        </p:blipFill>
        <p:spPr>
          <a:xfrm>
            <a:off x="500040" y="3500280"/>
            <a:ext cx="2928960" cy="2711520"/>
          </a:xfrm>
          <a:prstGeom prst="rect">
            <a:avLst/>
          </a:prstGeom>
          <a:ln w="0">
            <a:noFill/>
          </a:ln>
        </p:spPr>
      </p:pic>
      <p:sp>
        <p:nvSpPr>
          <p:cNvPr id="45" name="14 Rectángulo"/>
          <p:cNvSpPr/>
          <p:nvPr/>
        </p:nvSpPr>
        <p:spPr>
          <a:xfrm>
            <a:off x="357120" y="2000160"/>
            <a:ext cx="4357800" cy="128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l exterior del restaurante hay mucho desorden, basura y mucha circulación de person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misma persona que se encarga de servir las comidas es quien cobra el precio de las mis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15 Rectángulo"/>
          <p:cNvSpPr/>
          <p:nvPr/>
        </p:nvSpPr>
        <p:spPr>
          <a:xfrm>
            <a:off x="4357800" y="4429080"/>
            <a:ext cx="4357440" cy="1857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observó que el piso estaba sucio y las paredes y desgastadas, tambié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restaurante no cuenta con extintores y pocas señales de escape en casos de emergenc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cocina es pequeña, desordenada y su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UPC\LIDERAZGO\Restaurante\Foto0043.jpg"/>
          <p:cNvPicPr/>
          <p:nvPr/>
        </p:nvPicPr>
        <p:blipFill>
          <a:blip r:embed="rId1"/>
          <a:stretch/>
        </p:blipFill>
        <p:spPr>
          <a:xfrm>
            <a:off x="5357880" y="357120"/>
            <a:ext cx="307188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UPC\LIDERAZGO\Restaurante\Foto0039.jpg"/>
          <p:cNvPicPr/>
          <p:nvPr/>
        </p:nvPicPr>
        <p:blipFill>
          <a:blip r:embed="rId2"/>
          <a:stretch/>
        </p:blipFill>
        <p:spPr>
          <a:xfrm>
            <a:off x="571680" y="3000240"/>
            <a:ext cx="3500280" cy="3333960"/>
          </a:xfrm>
          <a:prstGeom prst="rect">
            <a:avLst/>
          </a:prstGeom>
          <a:ln w="0">
            <a:noFill/>
          </a:ln>
        </p:spPr>
      </p:pic>
      <p:sp>
        <p:nvSpPr>
          <p:cNvPr id="49" name="6 Rectángulo"/>
          <p:cNvSpPr/>
          <p:nvPr/>
        </p:nvSpPr>
        <p:spPr>
          <a:xfrm>
            <a:off x="4286160" y="4143240"/>
            <a:ext cx="4357800" cy="235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misma persona que se encarga de servir los alimentos es quien cobra el precio de las mis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s mesas del establecimiento son compartidas y no individual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aroma que se percibe en el ambiente es algo desagradable y se pudo observar la presencia de mosc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Rectángulo"/>
          <p:cNvSpPr/>
          <p:nvPr/>
        </p:nvSpPr>
        <p:spPr>
          <a:xfrm>
            <a:off x="428760" y="357120"/>
            <a:ext cx="4357440" cy="235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ferente a la comida, la calidad y el sabor son mal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cima de la refrigeradora había una serie de objetos inadecuados para esa ub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ambiente no muestra el certificado de funcionamiento, ni el libro de reclamaciones para el consumid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CuadroTexto"/>
          <p:cNvSpPr/>
          <p:nvPr/>
        </p:nvSpPr>
        <p:spPr>
          <a:xfrm>
            <a:off x="285840" y="500040"/>
            <a:ext cx="63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 la entrevista se obtuvo las siguientes respuest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Rectángulo"/>
          <p:cNvSpPr/>
          <p:nvPr/>
        </p:nvSpPr>
        <p:spPr>
          <a:xfrm>
            <a:off x="214200" y="928800"/>
            <a:ext cx="4214880" cy="1285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1. ¿Por qué comían en ese restaur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Las personas no conocían otro restaura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El precio era muy cómo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Había variedad en el men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5 Rectángulo"/>
          <p:cNvSpPr/>
          <p:nvPr/>
        </p:nvSpPr>
        <p:spPr>
          <a:xfrm>
            <a:off x="214200" y="2286000"/>
            <a:ext cx="4214880" cy="171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2. ¿Qué le parece el ambiente del restaur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Se ve que hay falta de higiene y o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Les parece normal, como el resto de los restaur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No tiene buen aspecto y hay un aroma desagrad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 Rectángulo"/>
          <p:cNvSpPr/>
          <p:nvPr/>
        </p:nvSpPr>
        <p:spPr>
          <a:xfrm>
            <a:off x="214200" y="4071960"/>
            <a:ext cx="4214880" cy="128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3. ¿Qué le parece la comid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Sirven buena por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El sabor no es tan ma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Deberían servir mucho 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Rectángulo"/>
          <p:cNvSpPr/>
          <p:nvPr/>
        </p:nvSpPr>
        <p:spPr>
          <a:xfrm>
            <a:off x="214200" y="5429160"/>
            <a:ext cx="4214880" cy="128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4. ¿Si pudiera mejorar algo, qué serí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Mejor sazón d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Poner música y TV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Un poco mas de limpiez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:\UPC\LIDERAZGO\Restaurante\Foto0045.jpg"/>
          <p:cNvPicPr/>
          <p:nvPr/>
        </p:nvPicPr>
        <p:blipFill>
          <a:blip r:embed="rId1"/>
          <a:stretch/>
        </p:blipFill>
        <p:spPr>
          <a:xfrm>
            <a:off x="7000920" y="35712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:\UPC\LIDERAZGO\Restaurante\Foto0059.jpg"/>
          <p:cNvPicPr/>
          <p:nvPr/>
        </p:nvPicPr>
        <p:blipFill>
          <a:blip r:embed="rId2"/>
          <a:stretch/>
        </p:blipFill>
        <p:spPr>
          <a:xfrm>
            <a:off x="5286240" y="2643120"/>
            <a:ext cx="3357720" cy="18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E:\UPC\LIDERAZGO\Restaurante\Foto0058.jpg"/>
          <p:cNvPicPr/>
          <p:nvPr/>
        </p:nvPicPr>
        <p:blipFill>
          <a:blip r:embed="rId3"/>
          <a:stretch/>
        </p:blipFill>
        <p:spPr>
          <a:xfrm>
            <a:off x="5214960" y="4643280"/>
            <a:ext cx="1714320" cy="20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:\UPC\LIDERAZGO\Restaurante\Foto0030.jpg"/>
          <p:cNvPicPr/>
          <p:nvPr/>
        </p:nvPicPr>
        <p:blipFill>
          <a:blip r:embed="rId4"/>
          <a:stretch/>
        </p:blipFill>
        <p:spPr>
          <a:xfrm>
            <a:off x="7215120" y="4643280"/>
            <a:ext cx="1533600" cy="20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E:\UPC\LIDERAZGO\Restaurante\Foto0052.jpg"/>
          <p:cNvPicPr/>
          <p:nvPr/>
        </p:nvPicPr>
        <p:blipFill>
          <a:blip r:embed="rId5"/>
          <a:stretch/>
        </p:blipFill>
        <p:spPr>
          <a:xfrm>
            <a:off x="5268960" y="428760"/>
            <a:ext cx="15714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campos</cp:lastModifiedBy>
  <dcterms:modified xsi:type="dcterms:W3CDTF">2012-04-14T18:55:52Z</dcterms:modified>
  <cp:revision>10</cp:revision>
  <dc:subject/>
  <dc:title>Diapositiva 1</dc:title>
</cp:coreProperties>
</file>